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10075863" cy="75628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55A5-C391-45A4-B6CE-5BA383D54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970000" y="228240"/>
            <a:ext cx="6854760" cy="15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entury Schoolbook 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72880" y="1828800"/>
            <a:ext cx="9528480" cy="261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6000"/>
              </a:lnSpc>
              <a:spcAft>
                <a:spcPts val="7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72880" y="4693680"/>
            <a:ext cx="9528480" cy="261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6000"/>
              </a:lnSpc>
              <a:spcAft>
                <a:spcPts val="7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1025-61BF-4E8C-9D15-56F6EDBD4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970000" y="228240"/>
            <a:ext cx="6854760" cy="15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entury Schoolbook 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72880" y="1828800"/>
            <a:ext cx="4649760" cy="261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6000"/>
              </a:lnSpc>
              <a:spcAft>
                <a:spcPts val="7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5560" y="1828800"/>
            <a:ext cx="4649760" cy="261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6000"/>
              </a:lnSpc>
              <a:spcAft>
                <a:spcPts val="7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72880" y="4693680"/>
            <a:ext cx="4649760" cy="261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6000"/>
              </a:lnSpc>
              <a:spcAft>
                <a:spcPts val="7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55560" y="4693680"/>
            <a:ext cx="4649760" cy="261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6000"/>
              </a:lnSpc>
              <a:spcAft>
                <a:spcPts val="7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D2FF-60A3-4510-A115-4651B7501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970000" y="228240"/>
            <a:ext cx="6854760" cy="15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entury Schoolbook 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72880" y="1828800"/>
            <a:ext cx="3067920" cy="261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6000"/>
              </a:lnSpc>
              <a:spcAft>
                <a:spcPts val="7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94520" y="1828800"/>
            <a:ext cx="3067920" cy="261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6000"/>
              </a:lnSpc>
              <a:spcAft>
                <a:spcPts val="7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716160" y="1828800"/>
            <a:ext cx="3067920" cy="261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6000"/>
              </a:lnSpc>
              <a:spcAft>
                <a:spcPts val="7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72880" y="4693680"/>
            <a:ext cx="3067920" cy="261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6000"/>
              </a:lnSpc>
              <a:spcAft>
                <a:spcPts val="7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94520" y="4693680"/>
            <a:ext cx="3067920" cy="261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6000"/>
              </a:lnSpc>
              <a:spcAft>
                <a:spcPts val="7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716160" y="4693680"/>
            <a:ext cx="3067920" cy="261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6000"/>
              </a:lnSpc>
              <a:spcAft>
                <a:spcPts val="7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E1BA-C464-4B4B-AF6A-780D29648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970000" y="228240"/>
            <a:ext cx="6854760" cy="15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entury Schoolbook 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72880" y="1828800"/>
            <a:ext cx="9528480" cy="548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BABD-C68A-4FBB-975D-2CC8D2289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970000" y="228240"/>
            <a:ext cx="6854760" cy="15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entury Schoolbook 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72880" y="1828800"/>
            <a:ext cx="9528480" cy="548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6000"/>
              </a:lnSpc>
              <a:spcAft>
                <a:spcPts val="7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D936-800E-4FDD-95B0-86EBF0984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970000" y="228240"/>
            <a:ext cx="6854760" cy="15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entury Schoolbook 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2880" y="1828800"/>
            <a:ext cx="4649760" cy="548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6000"/>
              </a:lnSpc>
              <a:spcAft>
                <a:spcPts val="7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55560" y="1828800"/>
            <a:ext cx="4649760" cy="548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6000"/>
              </a:lnSpc>
              <a:spcAft>
                <a:spcPts val="7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0CFF-1C2F-41A0-9117-647BD8CF2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970000" y="228240"/>
            <a:ext cx="6854760" cy="15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entury Schoolbook 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11CB-6520-4406-B1B9-EB11A099A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970000" y="228240"/>
            <a:ext cx="6854760" cy="74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0C5D-3785-4666-82F2-890355D65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970000" y="228240"/>
            <a:ext cx="6854760" cy="15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entury Schoolbook 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72880" y="1828800"/>
            <a:ext cx="4649760" cy="261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6000"/>
              </a:lnSpc>
              <a:spcAft>
                <a:spcPts val="7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5560" y="1828800"/>
            <a:ext cx="4649760" cy="548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6000"/>
              </a:lnSpc>
              <a:spcAft>
                <a:spcPts val="7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72880" y="4693680"/>
            <a:ext cx="4649760" cy="261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6000"/>
              </a:lnSpc>
              <a:spcAft>
                <a:spcPts val="7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29C8-EFEB-40CA-B91A-98535389D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970000" y="228240"/>
            <a:ext cx="6854760" cy="15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entury Schoolbook 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72880" y="1828800"/>
            <a:ext cx="4649760" cy="548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6000"/>
              </a:lnSpc>
              <a:spcAft>
                <a:spcPts val="7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5560" y="1828800"/>
            <a:ext cx="4649760" cy="261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6000"/>
              </a:lnSpc>
              <a:spcAft>
                <a:spcPts val="7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55560" y="4693680"/>
            <a:ext cx="4649760" cy="261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6000"/>
              </a:lnSpc>
              <a:spcAft>
                <a:spcPts val="7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18A1-935D-4307-BD0A-CE148F7BF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970000" y="228240"/>
            <a:ext cx="6854760" cy="15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entury Schoolbook 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72880" y="1828800"/>
            <a:ext cx="4649760" cy="261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6000"/>
              </a:lnSpc>
              <a:spcAft>
                <a:spcPts val="7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5560" y="1828800"/>
            <a:ext cx="4649760" cy="261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6000"/>
              </a:lnSpc>
              <a:spcAft>
                <a:spcPts val="7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72880" y="4693680"/>
            <a:ext cx="9528480" cy="261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6000"/>
              </a:lnSpc>
              <a:spcAft>
                <a:spcPts val="7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2B03-077E-4A15-A7BE-5A01F407D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970000" y="228240"/>
            <a:ext cx="6854760" cy="15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Schoolbook 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entury Schoolbook 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2880" y="1828800"/>
            <a:ext cx="9528480" cy="548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63640" indent="-28728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5280" indent="-215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7280" indent="-21600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8920" indent="-215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8920" indent="-215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8920" indent="-215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41D7D6-C8B0-411F-A756-A9B0676EF9A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08000" y="157320"/>
            <a:ext cx="2697120" cy="668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mailto:christian.schaller@collabora.co.uk" TargetMode="External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240" y="1138320"/>
            <a:ext cx="9597960" cy="30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entury Schoolbook L"/>
              </a:rPr>
              <a:t>GStreamer:</a:t>
            </a:r>
            <a:br>
              <a:rPr sz="4400"/>
            </a:b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Century Schoolbook L"/>
              </a:rPr>
              <a:t>What's new ?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Century Schoolbook 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99520" y="3657240"/>
            <a:ext cx="9069480" cy="26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31640"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itstream Vera Serif"/>
                <a:ea typeface="Arial"/>
              </a:rPr>
              <a:t>Christian F.K. Schaller (christian.schaller@collabora.co.uk)</a:t>
            </a:r>
            <a:r>
              <a:rPr b="0" lang="en-GB" sz="3200" spc="-1" strike="noStrike">
                <a:solidFill>
                  <a:srgbClr val="000000"/>
                </a:solidFill>
                <a:latin typeface="Bitstream Vera Serif"/>
                <a:ea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1" marL="431640"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970000" y="256680"/>
            <a:ext cx="6856200" cy="15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entury Schoolbook L"/>
              </a:rPr>
              <a:t>Intelligent Download Buffer</a:t>
            </a:r>
            <a:endParaRPr b="1" lang="en-US" sz="4400" spc="-1" strike="noStrike">
              <a:solidFill>
                <a:srgbClr val="000000"/>
              </a:solidFill>
              <a:latin typeface="Century Schoolbook 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2880" y="1872720"/>
            <a:ext cx="9529920" cy="53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Visual feedback of download progress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ntelligent pausing if network can not keep up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Quicktime/YouTube style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970000" y="272880"/>
            <a:ext cx="6856200" cy="15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entury Schoolbook L"/>
              </a:rPr>
              <a:t>Qtopia Support</a:t>
            </a:r>
            <a:endParaRPr b="1" lang="en-US" sz="4400" spc="-1" strike="noStrike">
              <a:solidFill>
                <a:srgbClr val="000000"/>
              </a:solidFill>
              <a:latin typeface="Century Schoolbook 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72880" y="1872720"/>
            <a:ext cx="9529920" cy="53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Qt and Qtopia integrated support through Phonon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Provides subset of GStreamer functionality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970000" y="256680"/>
            <a:ext cx="6856200" cy="15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entury Schoolbook L"/>
              </a:rPr>
              <a:t>OpenMax Support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Century Schoolbook 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2880" y="1872720"/>
            <a:ext cx="9529920" cy="53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GStreamer Integration with OpenMax I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Next talk in this room on this subjec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970000" y="272880"/>
            <a:ext cx="6856200" cy="15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entury Schoolbook L"/>
              </a:rPr>
              <a:t>OpenGL support</a:t>
            </a:r>
            <a:endParaRPr b="1" lang="en-US" sz="4400" spc="-1" strike="noStrike">
              <a:solidFill>
                <a:srgbClr val="000000"/>
              </a:solidFill>
              <a:latin typeface="Century Schoolbook 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72880" y="1872720"/>
            <a:ext cx="9529920" cy="53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New gst-plugins-gl module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OpenGL based video output (xvimagesink replacement)</a:t>
            </a: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Push video into Clutter etc. 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Enable video processing on the GPU in a GStreamer pipeline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Any OpenGL video filters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970000" y="272880"/>
            <a:ext cx="6856200" cy="15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entury Schoolbook L"/>
              </a:rPr>
              <a:t>Dirac Video</a:t>
            </a:r>
            <a:endParaRPr b="1" lang="en-US" sz="4400" spc="-1" strike="noStrike">
              <a:solidFill>
                <a:srgbClr val="000000"/>
              </a:solidFill>
              <a:latin typeface="Century Schoolbook 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72880" y="1872720"/>
            <a:ext cx="9529920" cy="53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Encoder and Decoder available for GStreamer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Created by the BBC Research and Innovation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Royalty free codec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Heading for VC-2 standardisation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886200" y="5943600"/>
            <a:ext cx="5943600" cy="134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970000" y="228240"/>
            <a:ext cx="68562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entury Schoolbook L"/>
              </a:rPr>
              <a:t>DVB Support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Century Schoolbook 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9529920" cy="53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DVB-T, DVB-S, DVB-C tested and confirmed working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ATSC still to be done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Deinterlacing, MHEG, scanning still to be done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970000" y="228240"/>
            <a:ext cx="68562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entury Schoolbook L"/>
              </a:rPr>
              <a:t>DVB Support</a:t>
            </a:r>
            <a:endParaRPr b="1" lang="en-US" sz="4400" spc="-1" strike="noStrike">
              <a:solidFill>
                <a:srgbClr val="000000"/>
              </a:solidFill>
              <a:latin typeface="Century Schoolbook 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8229600" cy="58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970000" y="272880"/>
            <a:ext cx="6856200" cy="15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entury Schoolbook L"/>
              </a:rPr>
              <a:t>Browser Support</a:t>
            </a:r>
            <a:endParaRPr b="1" lang="en-US" sz="4400" spc="-1" strike="noStrike">
              <a:solidFill>
                <a:srgbClr val="000000"/>
              </a:solidFill>
              <a:latin typeface="Century Schoolbook 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72880" y="1872720"/>
            <a:ext cx="9529920" cy="53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HTML5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WebKi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Firefox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573360" y="2725560"/>
            <a:ext cx="5811840" cy="436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6856560" cy="23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entury Schoolbook L"/>
              </a:rPr>
              <a:t>Improved Platform Support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Century Schoolbook 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72880" y="1828800"/>
            <a:ext cx="95299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Solaris (OSSv4)</a:t>
            </a: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Windows (native codec loading)</a:t>
            </a: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MacOSX (native codec loading)</a:t>
            </a: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70000" y="272880"/>
            <a:ext cx="6856200" cy="15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entury Schoolbook L"/>
              </a:rPr>
              <a:t>DLNA</a:t>
            </a:r>
            <a:endParaRPr b="1" lang="en-US" sz="4400" spc="-1" strike="noStrike">
              <a:solidFill>
                <a:srgbClr val="000000"/>
              </a:solidFill>
              <a:latin typeface="Century Schoolbook 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72880" y="1872720"/>
            <a:ext cx="9529920" cy="53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Coherence DLNA framewor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Hoping to soon have working transcoding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Client support components in place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970000" y="272880"/>
            <a:ext cx="6856200" cy="15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entury Schoolbook L"/>
              </a:rPr>
              <a:t>Summary</a:t>
            </a:r>
            <a:endParaRPr b="1" lang="en-US" sz="4400" spc="-1" strike="noStrike">
              <a:solidFill>
                <a:srgbClr val="000000"/>
              </a:solidFill>
              <a:latin typeface="Century Schoolbook 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72880" y="1872720"/>
            <a:ext cx="9529920" cy="53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Current status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What's new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What's being worked on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970000" y="272880"/>
            <a:ext cx="6856200" cy="15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entury Schoolbook L"/>
              </a:rPr>
              <a:t>Codecs</a:t>
            </a:r>
            <a:endParaRPr b="1" lang="en-US" sz="4400" spc="-1" strike="noStrike">
              <a:solidFill>
                <a:srgbClr val="000000"/>
              </a:solidFill>
              <a:latin typeface="Century Schoolbook 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72880" y="1872720"/>
            <a:ext cx="9529920" cy="53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Lots of available codec implementations for GStreamer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Open Source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OpenMax – GstOpenMax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ntel IPP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TI DaVinci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Fluendo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Collabora (Integration)</a:t>
            </a: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970000" y="256680"/>
            <a:ext cx="6856200" cy="15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entury Schoolbook L"/>
              </a:rPr>
              <a:t>Farsight2 and Telepathy</a:t>
            </a:r>
            <a:endParaRPr b="1" lang="en-US" sz="4400" spc="-1" strike="noStrike">
              <a:solidFill>
                <a:srgbClr val="000000"/>
              </a:solidFill>
              <a:latin typeface="Century Schoolbook 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72880" y="1872720"/>
            <a:ext cx="9529920" cy="53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ntegrated VOIP and videoconferencing toolki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SIP, Gtalk and others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Many to many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Collaboration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657600" y="5257800"/>
            <a:ext cx="6335640" cy="20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6856560" cy="23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entury Schoolbook L"/>
              </a:rPr>
              <a:t>Various New Embedded Related Plugins</a:t>
            </a:r>
            <a:endParaRPr b="1" lang="en-US" sz="4400" spc="-1" strike="noStrike">
              <a:solidFill>
                <a:srgbClr val="000000"/>
              </a:solidFill>
              <a:latin typeface="Century Schoolbook 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72880" y="1872720"/>
            <a:ext cx="9529920" cy="53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Neonhttp, libsoup plugins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DirectFB suppor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HAL plugins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Mpegparse, mpaudioparse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970000" y="256680"/>
            <a:ext cx="6856200" cy="15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entury Schoolbook L"/>
              </a:rPr>
              <a:t>Core and -base: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Century Schoolbook L"/>
              </a:rPr>
              <a:t>what's coming</a:t>
            </a:r>
            <a:endParaRPr b="1" lang="en-US" sz="4400" spc="-1" strike="noStrike">
              <a:solidFill>
                <a:srgbClr val="000000"/>
              </a:solidFill>
              <a:latin typeface="Century Schoolbook 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72880" y="1872720"/>
            <a:ext cx="9529920" cy="53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Performance query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More buffering/network suppor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nterlacing suppor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Fast metadata typefind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Plugin presets interface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970000" y="272880"/>
            <a:ext cx="6856200" cy="15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entury Schoolbook L"/>
              </a:rPr>
              <a:t>QA System</a:t>
            </a:r>
            <a:endParaRPr b="1" lang="en-US" sz="4400" spc="-1" strike="noStrike">
              <a:solidFill>
                <a:srgbClr val="000000"/>
              </a:solidFill>
              <a:latin typeface="Century Schoolbook 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72880" y="1872720"/>
            <a:ext cx="9529920" cy="53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New advanced QA system under developmen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Will let you automatically run extensive automated tests to reduce risk of regressions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970000" y="256680"/>
            <a:ext cx="6856200" cy="15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entury Schoolbook L"/>
              </a:rPr>
              <a:t>GStreamer and Mobile Platforms</a:t>
            </a:r>
            <a:endParaRPr b="1" lang="en-US" sz="4400" spc="-1" strike="noStrike">
              <a:solidFill>
                <a:srgbClr val="000000"/>
              </a:solidFill>
              <a:latin typeface="Century Schoolbook 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72880" y="1872720"/>
            <a:ext cx="9529920" cy="53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LiMo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Access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GPE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Maemo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OpenMoko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LiPS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Android (working on it)</a:t>
            </a: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970000" y="228240"/>
            <a:ext cx="68562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entury Schoolbook L"/>
              </a:rPr>
              <a:t>Questions?</a:t>
            </a:r>
            <a:endParaRPr b="1" lang="en-US" sz="4400" spc="-1" strike="noStrike">
              <a:solidFill>
                <a:srgbClr val="000000"/>
              </a:solidFill>
              <a:latin typeface="Century Schoolbook 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72880" y="1872720"/>
            <a:ext cx="9529920" cy="53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itstream Vera Serif"/>
              </a:rPr>
              <a:t>Or contact me on </a:t>
            </a:r>
            <a:r>
              <a:rPr b="0" lang="en-GB" sz="32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christian.schaller@collabora.co.uk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itstream Vera Serif"/>
              </a:rPr>
              <a:t>http://www.collabora.co.uk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970000" y="256680"/>
            <a:ext cx="6856200" cy="15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entury Schoolbook L"/>
              </a:rPr>
              <a:t>Collabora Multimedia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Century Schoolbook L"/>
            </a:endParaRPr>
          </a:p>
        </p:txBody>
      </p:sp>
      <p:sp>
        <p:nvSpPr>
          <p:cNvPr id="47" name=""/>
          <p:cNvSpPr/>
          <p:nvPr/>
        </p:nvSpPr>
        <p:spPr>
          <a:xfrm>
            <a:off x="301680" y="125244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66840" y="2514600"/>
            <a:ext cx="8942400" cy="30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98000"/>
          </a:bodyPr>
          <a:p>
            <a:pPr marL="423000" indent="-31716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World Leading experts on GStreamer, Telepathy, DLNA, OpenMax and GTK+ Webki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23000" indent="-31716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Global reach with offices in Cambridge UK, Montreal Canada and Barcelona Spain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23000" indent="-31716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Established track record with customers such as Nokia and OLPC 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343400" y="5257800"/>
            <a:ext cx="5532480" cy="215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970000" y="272880"/>
            <a:ext cx="6856200" cy="15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entury Schoolbook L"/>
              </a:rPr>
              <a:t>GStreamer</a:t>
            </a:r>
            <a:endParaRPr b="1" lang="en-US" sz="4400" spc="-1" strike="noStrike">
              <a:solidFill>
                <a:srgbClr val="000000"/>
              </a:solidFill>
              <a:latin typeface="Century Schoolbook 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2880" y="1872720"/>
            <a:ext cx="9529920" cy="53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Generic Multimedia Framewor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LGPL licensed core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De-facto standard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Cross Platform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970000" y="272880"/>
            <a:ext cx="6856200" cy="15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entury Schoolbook L"/>
              </a:rPr>
              <a:t>Licensing</a:t>
            </a:r>
            <a:endParaRPr b="1" lang="en-US" sz="4400" spc="-1" strike="noStrike">
              <a:solidFill>
                <a:srgbClr val="000000"/>
              </a:solidFill>
              <a:latin typeface="Century Schoolbook 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72880" y="1872720"/>
            <a:ext cx="9529920" cy="53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Trying to make things easy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Plugins-modules: Base, Good, Bad, Ugly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970000" y="272880"/>
            <a:ext cx="6856200" cy="15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entury Schoolbook L"/>
              </a:rPr>
              <a:t>GStreamer Design</a:t>
            </a:r>
            <a:endParaRPr b="1" lang="en-US" sz="4400" spc="-1" strike="noStrike">
              <a:solidFill>
                <a:srgbClr val="000000"/>
              </a:solidFill>
              <a:latin typeface="Century Schoolbook 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72880" y="1872720"/>
            <a:ext cx="9529920" cy="53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Pipeline based design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Close to 200 plugins available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Not just playbac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943600" y="4800600"/>
            <a:ext cx="4056120" cy="263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970000" y="272880"/>
            <a:ext cx="6856200" cy="15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entury Schoolbook L"/>
              </a:rPr>
              <a:t>Core: what's new</a:t>
            </a:r>
            <a:endParaRPr b="1" lang="en-US" sz="4400" spc="-1" strike="noStrike">
              <a:solidFill>
                <a:srgbClr val="000000"/>
              </a:solidFill>
              <a:latin typeface="Century Schoolbook 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2880" y="1828440"/>
            <a:ext cx="9529920" cy="53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RTP design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Latency API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Cross-platform suppor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(Network) buffering suppor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970000" y="272880"/>
            <a:ext cx="6856200" cy="15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entury Schoolbook L"/>
              </a:rPr>
              <a:t>Playbin2</a:t>
            </a:r>
            <a:endParaRPr b="1" lang="en-US" sz="4400" spc="-1" strike="noStrike">
              <a:solidFill>
                <a:srgbClr val="000000"/>
              </a:solidFill>
              <a:latin typeface="Century Schoolbook 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2880" y="1872720"/>
            <a:ext cx="9529920" cy="53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Autoplugger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Encoded outpu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mproved HD suppor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Decodebin2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63640" indent="-287280">
              <a:lnSpc>
                <a:spcPct val="96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Luxi Sans"/>
              </a:rPr>
              <a:t>Faster, more versatile, better memory usage</a:t>
            </a:r>
            <a:endParaRPr b="0" lang="en-US" sz="26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970000" y="272880"/>
            <a:ext cx="6856200" cy="15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entury Schoolbook L"/>
              </a:rPr>
              <a:t>RTP Support</a:t>
            </a:r>
            <a:endParaRPr b="1" lang="en-US" sz="4400" spc="-1" strike="noStrike">
              <a:solidFill>
                <a:srgbClr val="000000"/>
              </a:solidFill>
              <a:latin typeface="Century Schoolbook 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72880" y="1872720"/>
            <a:ext cx="9529920" cy="53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Playbin2 with full RTSP suppor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RTP stack popular (Axis, Tandberg)</a:t>
            </a: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marL="431640" indent="-323640">
              <a:lnSpc>
                <a:spcPct val="96000"/>
              </a:lnSpc>
              <a:spcAft>
                <a:spcPts val="7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Windows Media, Real Media, MPEG, Ogg 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dward Hervey</dc:creator>
  <dc:description/>
  <dc:language>en-US</dc:language>
  <cp:lastModifiedBy>Christian Schaller</cp:lastModifiedBy>
  <cp:revision>0</cp:revision>
  <dc:subject/>
  <dc:title/>
</cp:coreProperties>
</file>